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D77-8DF8-4A82-9E4A-698C8941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8CE-8E87-4CEB-AD60-F69C2CCE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C86-8B6B-4100-86C2-8E8A3B35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A2EC-7220-417D-BFCB-633D0349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C84-F87C-4DB2-8664-11683CDD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22B-06FE-45A1-AE35-43D47A67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9397-9162-4896-A4BA-C27D1575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26BA-9852-4A49-875A-861A495B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BF7-F0AD-45D1-8554-19BC83E9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F5F-DDB2-4482-9A0B-B07057CB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C81-24B2-45B3-BFDE-116AB591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1DC-8ED5-4BCC-BCBE-B821A0D1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3C6A-4DB6-4AD4-83B5-B896BC868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457200"/>
          <a:ext cx="7086600" cy="6006960"/>
        </p:xfrm>
        <a:graphic>
          <a:graphicData uri="http://schemas.openxmlformats.org/drawingml/2006/table">
            <a:tbl>
              <a:tblPr/>
              <a:tblGrid>
                <a:gridCol w="1771920"/>
                <a:gridCol w="1771560"/>
                <a:gridCol w="1771560"/>
                <a:gridCol w="1771560"/>
              </a:tblGrid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lino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 14, 19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Jers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3, 19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eg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 25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a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 28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st Virgin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1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Yor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4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yla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6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forn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7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ask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11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ode Isla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14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19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a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20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higa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20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ra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21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27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neso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27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Mexi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5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wai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6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 Dako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7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a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8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shingt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14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028880" y="879480"/>
          <a:ext cx="7086600" cy="5460840"/>
        </p:xfrm>
        <a:graphic>
          <a:graphicData uri="http://schemas.openxmlformats.org/drawingml/2006/table">
            <a:tbl>
              <a:tblPr/>
              <a:tblGrid>
                <a:gridCol w="1771560"/>
                <a:gridCol w="1771560"/>
                <a:gridCol w="1771560"/>
                <a:gridCol w="1771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mo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15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va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19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necticu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20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nesse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21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nsylvan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25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scons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26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n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28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ssachuset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 28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brask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 4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r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 18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ow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 24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awa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 1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our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 13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Hampshi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 12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ntuck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 27, 19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 16, 19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 Dako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 23, 19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rgin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 25, 19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 Caroli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 3, 19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fied in 514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3:44:04Z</dcterms:created>
  <dc:creator>Becky Krichevsky</dc:creator>
  <dc:description/>
  <dc:language>en-US</dc:language>
  <cp:lastModifiedBy>Becky Krichevsky</cp:lastModifiedBy>
  <dcterms:modified xsi:type="dcterms:W3CDTF">2009-04-07T03:44:13Z</dcterms:modified>
  <cp:revision>1</cp:revision>
  <dc:subject/>
  <dc:title>Slide 1</dc:title>
</cp:coreProperties>
</file>